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FD2-6C5C-48A5-9222-56064EBD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F91-444E-46FA-B7F9-17861209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6A1-C649-4656-9192-AE9052A2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F87-C6C9-4C58-B670-BD595594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FD6-9CC3-48EC-9BB2-2CB08BBB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CF8-626D-4976-9718-9E3946A3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B0A-9601-4A84-9DE6-D9A81986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136-BE14-4CB3-9499-1E9CC3E8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643-EF21-464E-8CA4-61C9B17E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1DE-1F60-47F7-96DC-B02337E2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26C-2069-4C27-AEFF-AC5CC10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D46-03E4-4DB9-A0A2-A923BE4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67A6-1380-4FE7-8A44-4E3F4AED0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upload.wikimedia.org/wikipedia/commons/1/12/Black-tailed_Prairie_Dog_(Cynomys_ludovicianus)_eating_in_Zoo_Budapest_006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391520" cy="648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152280"/>
            <a:ext cx="371484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The Prairies</a:t>
            </a:r>
            <a:endParaRPr b="0" lang="en-US" sz="4400" spc="1" strike="noStrike">
              <a:ln w="9360">
                <a:solidFill>
                  <a:srgbClr val="0066ff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</p:spTree>
  </p:cSld>
  <p:transition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3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of endangered and threaten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raising of certain animals has helped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the black footed ferrets and burrowing o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Loggerhead Shrike - Butcherbird"/>
          <p:cNvPicPr/>
          <p:nvPr/>
        </p:nvPicPr>
        <p:blipFill>
          <a:blip r:embed="rId1"/>
          <a:stretch/>
        </p:blipFill>
        <p:spPr>
          <a:xfrm>
            <a:off x="5410080" y="3200400"/>
            <a:ext cx="3353040" cy="282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4724280" cy="319248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effects humans have on this eco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don’t change what we do Canadian prairies could disappear along with the animals that depend on th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4496040" cy="253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4191120"/>
            <a:ext cx="2398680" cy="251460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nimals are only found in and around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programs that are helping to recover the prairies and all the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544824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280" y="2895480"/>
            <a:ext cx="2514600" cy="2895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486400" y="4683240"/>
            <a:ext cx="2895480" cy="2174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cation and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the south of Alberta, Manitoba and Saskatchewan, very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precipitation because of the mountains to the west, makes it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average -10 summer average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cm to 50cm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Map of the Prairies ecozone"/>
          <p:cNvPicPr/>
          <p:nvPr/>
        </p:nvPicPr>
        <p:blipFill>
          <a:blip r:embed="rId1"/>
          <a:stretch/>
        </p:blipFill>
        <p:spPr>
          <a:xfrm>
            <a:off x="6248520" y="4267080"/>
            <a:ext cx="2590560" cy="2405160"/>
          </a:xfrm>
          <a:prstGeom prst="rect">
            <a:avLst/>
          </a:prstGeom>
          <a:ln w="0">
            <a:noFill/>
          </a:ln>
        </p:spPr>
      </p:pic>
    </p:spTree>
  </p:cSld>
  <p:transition advTm="24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otic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t life more to the east because of more precip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te spruce, black spruce and w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ack bear, moose, black footed fer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581280" cy="355284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lack footed fer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imal is an endangered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ixed grass prai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ine of the black tailed prairie dog is the main reason of species population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at loss and pesticides are also big problems for the population of the fer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Photo: Adult male black-footed ferret"/>
          <p:cNvPicPr/>
          <p:nvPr/>
        </p:nvPicPr>
        <p:blipFill>
          <a:blip r:embed="rId1"/>
          <a:stretch/>
        </p:blipFill>
        <p:spPr>
          <a:xfrm>
            <a:off x="5943600" y="990720"/>
            <a:ext cx="297504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Black-tailed Prairie Dog | Cynomys ludovicianus photo"/>
          <p:cNvPicPr/>
          <p:nvPr/>
        </p:nvPicPr>
        <p:blipFill>
          <a:blip r:embed="rId2"/>
          <a:stretch/>
        </p:blipFill>
        <p:spPr>
          <a:xfrm>
            <a:off x="5562720" y="41148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81680" y="3733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footed fer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tailed prairie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reats to the Mixed Grass Prai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¼ of the original grasslands is left due to farming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endangered and threatened sp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4332240"/>
            <a:ext cx="4267080" cy="2525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Loggerhead"/>
          <p:cNvPicPr/>
          <p:nvPr/>
        </p:nvPicPr>
        <p:blipFill>
          <a:blip r:embed="rId2"/>
          <a:stretch/>
        </p:blipFill>
        <p:spPr>
          <a:xfrm>
            <a:off x="5791320" y="1523880"/>
            <a:ext cx="3009960" cy="2508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8168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gerhead Shr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bitat change diminished population of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sticides and fertilizers kill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202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809880" cy="3256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95680" y="2895480"/>
            <a:ext cx="46483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decreases of other animals, makes it harder to find holes to n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 for grasshoppers, kill main source of food and the ow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791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rrowing o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 f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dedef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fires, quickly spread damaging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bal warming is also another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4876920" cy="370836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es to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at risk act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461016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344304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3733920"/>
            <a:ext cx="4876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ggerhead shrike is listed as threatened in the species at risk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w protected by the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on parks have been set up to try and recover the gras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lands National Park of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es replanted in the old farm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33920" y="3505320"/>
            <a:ext cx="4876560" cy="3200400"/>
          </a:xfrm>
          <a:prstGeom prst="rect">
            <a:avLst/>
          </a:prstGeom>
          <a:ln w="0">
            <a:noFill/>
          </a:ln>
        </p:spPr>
      </p:pic>
    </p:spTree>
  </p:cSld>
  <p:transition advTm="30000">
    <p:fade thruBlk="true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4:20:03Z</dcterms:created>
  <dc:creator>User</dc:creator>
  <dc:description/>
  <dc:language>en-US</dc:language>
  <cp:lastModifiedBy>Stewart Istvan</cp:lastModifiedBy>
  <dcterms:modified xsi:type="dcterms:W3CDTF">2010-10-17T19:35:35Z</dcterms:modified>
  <cp:revision>12</cp:revision>
  <dc:subject/>
  <dc:title>Slide 1</dc:title>
</cp:coreProperties>
</file>